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1E5-64CC-4A3D-96EF-68C7A8D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A5E-C0C0-46DB-B1CB-EB511B58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B1C-7842-498B-81C4-6C9B67A0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26B-5616-4294-B520-B098CDE1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BB7-C626-44CC-91B4-FD0E7222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FC1-78F4-472F-9A75-6E6F4A98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6F2-C1E8-4907-AD28-EEC7A28D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525-031E-4888-9408-5A293DF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DB7-910B-4141-996A-2124653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A3D-AA33-4F48-BF37-EB5E6D2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031-A39E-4D6B-84D9-AE0FDDD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82F-BFD1-4EDF-A7A5-019464E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F786-9D5D-4A65-A5A7-D160A35DB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14415eDIwaFNgfZ_ph" descr=""/>
          <p:cNvPicPr/>
          <p:nvPr/>
        </p:nvPicPr>
        <p:blipFill>
          <a:blip r:embed="rId2"/>
          <a:stretch/>
        </p:blipFill>
        <p:spPr>
          <a:xfrm>
            <a:off x="-9036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6600" y="7621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ني لَرافعٌ عينايَ إلى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يَداي ممدوت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ليك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استجب دعاي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p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48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سوع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بُّ صخر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زي وتر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ك اتك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سمع صل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ستجب دُعاي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630118yLVwcYUxKT_ph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8580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وقت ضيق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ثتُ عن النج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جئتُ إليكَ قائ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استجب دُعا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96299ROkzHDyBvb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04920" y="22860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آتي إليك في هيكلِ قدس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أجثو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خاشعاً أمام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عرشِ قدسك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إسمع صلاتي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استجب دُعاي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8:52:27Z</dcterms:created>
  <dc:creator>SUZANNE.MD</dc:creator>
  <dc:description/>
  <dc:language>en-US</dc:language>
  <cp:lastModifiedBy>USER</cp:lastModifiedBy>
  <dcterms:modified xsi:type="dcterms:W3CDTF">2002-11-03T10:27:56Z</dcterms:modified>
  <cp:revision>2</cp:revision>
  <dc:subject/>
  <dc:title>PowerPoint Presentation</dc:title>
</cp:coreProperties>
</file>